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2200" y="413064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68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128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36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220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128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36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9FA59-7B91-421E-BDDF-970D7AFB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97F61-54B7-4372-9F2D-C035AC4E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DA71A-14EF-4A10-9951-3B07AC7B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84ADD-DD95-444B-A6C4-C75C95DE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ECDF2-C309-473D-936A-00EB3693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47AA0-D91C-4389-9391-7D964B07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4E512-F350-4E00-B442-D164238A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68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C5BE9-D299-4278-8295-E21972EE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CE708-64F5-4A75-B2E5-AF17CBAA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200" y="413064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070B6-C8DD-4043-808D-BD2797CA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68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7CAA4-DB37-43B0-9168-AE2976F2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128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036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20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128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036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C0B53-2F60-46FB-93F1-ABB89E55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68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2560" y="6365880"/>
            <a:ext cx="3355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Koch-107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612720" cy="63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4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6792-A7AD-42BB-9752-2CFB45C4176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E98D-C011-4796-9374-49FDAD4D8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What Is Christianity?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520" y="274284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Review of the Essential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. Felix Just, S.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I-A:  Church Organ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urches &amp; Denominations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divisions: always! esp. 1054, 151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lso reunifications &amp; mer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with each Churc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. parishes/congregations, local dioceses, national conferences, international assoc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 within each Churc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hops (incl. Pope, cardinals), priests, deacons, lay ministers;  pastors, elder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I-B:  Internal Regul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hi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can join?  What is the process? (evangelization;  catechesis;  initi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hip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are leaders chosen?  Who is eligi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members’ &amp; leaders’ obligations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ctions and punishments? (Canon La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I-C: External Rel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umenical Rel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ues between Christian denominations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lateral &amp; international groups (W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-religious Rel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ues with other major world religions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. with Judaism &amp; Islam (historically clo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urch/State Rel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eration or tensions with political, social, economic, and other secular institu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RE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 &amp; Develop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Foundations &amp;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nches, Divisions, Demo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Beliefs &amp; Practi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al Texts:  Bible, Creed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 Teachings:  Theological &amp; Eth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Practices:  Liturgical &amp; Spiri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&amp; Regul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tion, Leadership, Memb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Rules;  External Re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l Exam: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Essay Ques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the core beliefs and practices of Christianity?  (What is common to all Orthodox, Catholic, and Protestant Xns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some of the most important differences in theology and praxis between Orthodox, Catholic, and Protestant X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as (and still is) the impact of the Second Vatican Council on Christianity (both the Catholic Church and others)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 the typical processes of Christian Initiation  (Baptism-Confirmation-Eucharist)?  Differences for Orthodox, Catholics, Protestants?  Differences for infants vs. adults in Catholicis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 the wide variety of Christian "vocations"  (how God "calls" Xns to live; religious &amp; lay; historical differences;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"Scripture" and "Tradition"?  How are they related in Catholic theology?  …in other branches of Christianit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l Exam: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Practical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encourage you 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y togeth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your regular group or with other studen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g several pens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n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mal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lue Book,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Bible, and your one page of not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xam will take most students about two hours; some a little more or les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Well  &amp;  Good Luc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roduction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256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ian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world relig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“Western” religion (w/ Judaism &amp; Isla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rld religion today (ca. 2 billion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based on belief tha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us of Nazare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( “Messiah”) &amp; the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of Go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”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most other major world religions, Christianity has sever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aspec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 &amp;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Beliefs &amp; Pract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&amp; Reg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-A:  Hist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Background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aham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raelites, Hebrews, Jews, 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Foundati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us of Nazare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ucified ca. AD 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his first disciples/apost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Development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 preserved/adapted 2000 year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lay of both old &amp; new, ancient &amp; mode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-B:  Branches &amp; Subdivi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84548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Christian Branch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astern) Orthodox, (Roman) Catholic, Anglican, Protestant, Restorationist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thodox, Anglicans, Protestants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: by nation &amp; language: Greek, Russian…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: by nations: esp. former British colon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: by leaders/theologies: Lutheran, Reformed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 within Catholicism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gious orders &amp; societies (monastic, mendicant, apostolic, etc.), lay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-C:  Demograph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074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hristians World-wide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 2 billion in 2000;  ~ 33% of world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divisions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bill. Catholics;  500 mill. Protestant/Anglican; 250 mill. Orthodox;  250 mill. 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of Populations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% Africa;  85% N. America;  93% S. America; 9% Asia;  76% Europe;  85% Ocean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-A:  Foundational Tex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ial collection of books, in two part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Old Testament &amp; New Test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eed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 professions of faith, defined by first two Ecumenical Councils: Nicea &amp; Constantin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riting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ings of Church leaders throughou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. founders of orders &amp; denom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-B:  Core Theological Beliefs</a:t>
            </a:r>
            <a:br>
              <a:rPr sz="44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    (Dogmas &amp; Doctrines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God in Three Persons (Trinity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her / Almighty / Creat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/ Jesus / Christ / Savior / Lor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ly Spirit / Giver of Life / Paracl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&amp; Huma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 by God, in God’s image, with free will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inally good, but corrupted by sin/death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urch, Salvation, Eschatolog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 of believers; body of Christ; resurrection of the body; eternal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-C:  Core Ethical Teachings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         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(Commandments &amp; Precepts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al Principl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good &amp; avoid evil;  love God, others, self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an “informed conscie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ual Mor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purpose of sex;  consistent ethic of life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relationships;  central role of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Ethic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nity of each person;  common good;  care of the poor/needy;  work, participation, pro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-D:  Religious Pract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endar, Feasts, &amp; Festiv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ent &amp;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m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 Lent &amp;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t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ints’ days;  local &amp; universal festiv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/ Communal Worshi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ial liturgies, rites, rituals, Sacrament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. Baptism &amp; Eucharist;  Sunday wo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/ Individual Spiritu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yer, devotions, pilgrimages, asceticism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eats, pious/spiritual practic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lix Just, SJ</cp:lastModifiedBy>
  <dcterms:modified xsi:type="dcterms:W3CDTF">2006-05-07T07:32:04Z</dcterms:modified>
  <cp:revision>14</cp:revision>
  <dc:subject/>
  <dc:title>PowerPoint Presentation</dc:title>
</cp:coreProperties>
</file>